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AA97-CBEE-44C0-AF30-0EAAFB07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B6B-F11D-4B49-9A3B-AE9376BD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8BF-FAC5-450D-8511-87BFE0C8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2A2-20E8-4EA0-8489-6E674320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0AA-B0E0-4E79-8DF5-177C2A45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5733-A938-4F71-AB78-FFF8B0F6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147-A574-4EAF-822C-4F7B5FAB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FF9-60F3-4A90-8031-CCB944AC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D0B-E9EE-4AE2-8AF8-D8BBF945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9F22-C7A3-4227-9019-8EDB0726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F8D-5829-4222-B4B6-2A19AF62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8BA0-7D5A-41CE-9C7F-D6ECB64B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6D35-9FDD-4FF9-B68A-5915C13CD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2960" y="1775880"/>
            <a:ext cx="8448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Big Ideas for Regie Routm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Middle School Read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24160" y="1555920"/>
            <a:ext cx="608148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Celebrate student's writing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hor's Chai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n't mark in their Writer's Notebook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equent Partner Sharing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78240" y="1749600"/>
            <a:ext cx="520380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Not teaching to "The Test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"Excellent teaching and assessing, daily writing, and writing enjoyment will translate to success on writing tests."-Regie Routm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78240" y="1919160"/>
            <a:ext cx="530208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Being a reader and writer yoursel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eling for our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ticipating in student activiti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ider your own writing process to help your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